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6734-EEAF-404F-896D-C48EAFF8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5F5-A91B-4505-AA31-9EFB6BB7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20E-A48A-494F-A75D-5B72B426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1744-C663-4682-806E-C29867F4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F390-EAC6-4430-9607-ED89EAF1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25EA-9ADA-480A-B92A-ECF6DDFF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2929-2A86-4AA1-A549-843193C2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E7DA-4943-450C-9796-A073B247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973D-C67F-4615-8888-FB3DD3ED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33B1-A480-4EF4-A0BB-989F7EFE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364E-BC84-456A-854D-459DEAA6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6AEB-6B96-485A-83D4-AFC42C62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C803-1904-4889-A875-8DD139FB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7BD6-C141-49F6-8820-7A86F72B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43CC-FDF7-4768-9FCD-4193DA8E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246E-EA16-4F28-A3C6-C449B383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A793-363D-471F-B4A4-13F8FB72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9342-689F-43F5-938C-CB6529AF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5CB8-B722-4D3E-9BF0-45C4D001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8B1-FBF2-4AA8-8245-8B3C5E1B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AEC-A5B3-49BE-B168-2036B83E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EFB7-5AED-4A1B-8386-3469F99C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B053-BBFC-4805-97A2-5D8FAAC8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7F68-DD83-403A-B40F-0A3998B6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9754-6898-4CA4-9028-F0D88E53FD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729A-5144-440D-A0B4-F2DDA9416E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reehugger.com/lake-baikal-goldman-prize.jpg&amp;imgrefurl=http://www.treehugger.com/files/2008/11/lake-baikal-pollution-free.php&amp;usg=__2cFacaCCFadgJs2PcVDs-wTDDlc=&amp;h=315&amp;w=468&amp;sz=52&amp;hl=en&amp;start=9&amp;zoom=1&amp;um=1&amp;itbs=1&amp;tbnid=OcG-jCZnnzA_GM:&amp;tbnh=86&amp;tbnw=128&amp;prev=/images%3Fq%3Dlake%2Bbaikal%26um%3D1%26hl%3Den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he Cold Wa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tory 1918 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actories became inefficient and did no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ke good quality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Soviet Union was more focused on making tanks and airplanes they did not care about the Russian peo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refore, The Russians didn’t have many household goo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-1143000"/>
            <a:ext cx="1218960" cy="81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eople had to wait in long lines to buy fo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were not happ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people from different ethnic groups that lived in Russia wanted to leave the Soviet Union and form their own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Cold War people went hung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late 1991 each of the 15 republics that made up the Soviet Union declared their independen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Russians were thrilled by the end of communism and the chance to enjoy freed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THE EN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02:01:49Z</dcterms:created>
  <dc:creator> </dc:creator>
  <dc:description/>
  <dc:language>en-US</dc:language>
  <cp:lastModifiedBy> </cp:lastModifiedBy>
  <dcterms:modified xsi:type="dcterms:W3CDTF">2010-12-16T02:34:07Z</dcterms:modified>
  <cp:revision>4</cp:revision>
  <dc:subject/>
  <dc:title>The Cold War</dc:title>
</cp:coreProperties>
</file>